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1F5-F1BB-4ABE-83EA-AA8C5C77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896-1153-4D97-A0D4-CE4EF9D4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CB1-CB32-44DA-B08B-66695950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260-3475-4AAB-807B-377CB7A1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838-681C-4EA8-82FF-C9BAA264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F47-4AFF-4BCC-8C68-48B4F37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7DC-E4E9-4131-A6F7-2766B59C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34B-D692-4D0C-85D9-EBF19C6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EEE-CA7F-4ED1-98A1-665E65BE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FA8-439D-4FF5-8138-290858E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7BD-F6CA-4246-BB16-15A14B7A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AC8-FA35-4143-BA3E-F07CFC1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20E0-3709-4331-A05C-B2744581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4 Kriste, Darca zmier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e, Darca zmier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ala môjho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vojej láske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tiekam sa v úzk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eba živej vody prú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á duši zahy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som dňom, nocou lk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šu v žiali vyplak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dna ľútosť, žiadny či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baví ma tiesne ví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 za hriechy, zloč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platil,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y pohľad upier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mrel si za mňa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úchom svojím prikry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ovu prijmi za sy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 ma bôľu, tráp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áť mi rad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svoj beh tu kon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voj kríž sa oprie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príde smrti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ôže ju tvoja 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vit tvojho vzkrie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e, Skala spase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7:11:30Z</dcterms:modified>
  <cp:revision>20</cp:revision>
  <dc:subject/>
  <dc:title>Je veľký náš Pán, on slávy je Kráľ Nech do všetkých strán  spev vrúcnych znie chvál.</dc:title>
</cp:coreProperties>
</file>